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B3E-0CDC-4771-83C8-44C556BB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F05-C75C-42F0-B90D-1327915E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969-77C7-49D1-9638-1C7158BC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904-4FD2-4C78-8EFF-10A26E40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2540-F60C-4CCA-BEFF-4E9AA172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E37D-A2D8-4B8F-8E9A-53F58558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D16C-0635-4B7B-AE4D-E64D7839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9B9E-C1AA-4366-96F4-50287424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ABDB-8676-4BC8-8F6C-07C077BA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B99E-E961-4715-9168-CF391CC2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61C6-C6F1-4D4F-A243-81D0BCFF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D8F-D0B2-4EE3-95FC-B07B65D3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FD5F-D8B6-486F-AB79-6B62833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FB2F-3883-4E3F-96A6-39952FD2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880C-8F53-4310-97A8-13E2390A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3BB3-85E9-44B0-802C-04C96472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8CAD-45A6-4DA6-8146-4B7F50F3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D12-F3E2-4ABF-B1F7-3C4763C0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5F7-4061-48C2-8E52-D0893A61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9F2-D5F2-409D-8D36-1D282303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2F3-B8A4-4FD8-87F7-48E5ECE2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EEA-8E31-48A4-BED6-9DF3454D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29A-A062-495E-9E02-1A69393D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157-9A8D-4500-8193-D8B4AB10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CCC0-6F13-448B-BA51-DE4E175090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4D91-7E39-4080-B73B-EF536140A7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873080"/>
            <a:ext cx="80769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ill There Was No Remedy”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ivided Kingdom – Part 2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7,  Lesson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57-1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ings 23:34 – 24:6;  Dan.1:1-7; Jer. 25; 35; 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57400" y="457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Invasion: The Beginning of the Cap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66880" y="464796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ile Judah Is Under Necho of Egyp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buchadnezzar of Babylon also imposed three years of tribute from Judah – 2 Kings 23:34 – 24:1,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mean, Moabite, Ammonite Raiders also Harass the Judeans – 24:2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hoiakim died – 24:5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hoiachin became the next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bylon Gains Contr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before Jehoiakim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k him with bronze shackles back to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gyptians are chased back to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ssels were taken from Jerusalem to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 and his friends are taken to Babylon – Dan.1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0" y="3049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pread of the Babylon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676520" y="4572000"/>
            <a:ext cx="41148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eremiah Predicts The Captiv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emiah 25:1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warnings were unh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0 years are assigned in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Babylon will be punished and repaid for their evil d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des would be God’s instrument (51:11) for punishing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 of the Rechabi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. 35:1-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followed the instructions of their father, Jehonad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Judah had not given God such respect and loy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Jehoiakim Burns the Scroll of Jeremiah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r. 36:1-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wanted Judah to hear and repent -3,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hoiakim cut the scroll and threw it into the fire as it was being 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second scroll Jehoiakim was told that he would have none to sit on the throne of David (36: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9:25:27Z</dcterms:created>
  <dc:creator>Terry W. Benton</dc:creator>
  <dc:description/>
  <dc:language>en-US</dc:language>
  <cp:lastModifiedBy>Frank D Vines</cp:lastModifiedBy>
  <dcterms:modified xsi:type="dcterms:W3CDTF">2006-03-26T19:57:35Z</dcterms:modified>
  <cp:revision>3</cp:revision>
  <dc:subject/>
  <dc:title>Till There Was No Remedy Divided Kingdom –Part 2</dc:title>
</cp:coreProperties>
</file>